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6202025" cy="32404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103DE1-5D81-4466-B9D9-184E4D1C9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571840" y="685800"/>
            <a:ext cx="171432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×18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0×9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×18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まで拡大し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名前を付けて保存」→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D94980-0399-4806-B633-2F811FC9603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0000" y="1739880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28144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704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00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402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6704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0000" y="7582320"/>
            <a:ext cx="1458144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1458144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0000" y="1292760"/>
            <a:ext cx="14581440" cy="250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8144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  <Words>61</Words>
  <Paragraphs>6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5-07T07:53:41Z</dcterms:modified>
  <cp:revision>11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